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D14-E83B-462E-B78C-BCCB5ECA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585-9503-48FF-B0B1-BF1692A4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D880-78AD-4711-BC32-4194EFF1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960-C974-48F6-9A06-3F19A887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7960-BC64-41C7-B62F-7BE3DC7A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9057-0E4E-4DAA-A3EA-82995F45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9619-5669-4D0E-B8BE-39D2B335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CFC5-BEE8-4493-9C9E-40690410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E50D-C286-4C1C-8294-056E510F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FD78-797A-4F68-9910-A935A200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7786-D5A5-4D7D-9870-6D442F8B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667-1369-41BA-85B6-B32C50FD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1C0E-2D5A-4BFC-9DAD-2783D471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C1FE-E750-490A-9146-29E092D4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4AB6-76AA-4EE8-9CF9-00E43962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9A4B-1D07-45F7-A1F8-4BE38E62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9451-2109-4406-9A70-E98DFA35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E0B-CB8D-4C44-9A90-B2ABB573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1B5-D218-40B0-BB99-DBBE9D8A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B32-9E12-4EE1-B299-D2B152FC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75C-7891-4BCE-B8A5-1E985166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0E9-67A6-4BC5-A4C2-441C83A0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0CF-ED4B-4864-BFBA-A41C31FC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DE8-DA0A-41B2-9EF1-AB214812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C111-C1A9-4E71-93AC-0FCC5AB0E6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7C21-5C0F-489F-BEF7-1E677A84A3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49.radikal.ru/i124/1112/e2/955cf79272a9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talogmineralov.ru/pic/194800131005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deal.by/240438_w640_h640_granite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rimamedia.ru/files/132059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УГОЛЬ"/>
          <p:cNvPicPr/>
          <p:nvPr/>
        </p:nvPicPr>
        <p:blipFill>
          <a:blip r:embed="rId2"/>
          <a:stretch/>
        </p:blipFill>
        <p:spPr>
          <a:xfrm>
            <a:off x="324000" y="981000"/>
            <a:ext cx="2303280" cy="2919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СОЛЬ"/>
          <p:cNvPicPr/>
          <p:nvPr/>
        </p:nvPicPr>
        <p:blipFill>
          <a:blip r:embed="rId3"/>
          <a:stretch/>
        </p:blipFill>
        <p:spPr>
          <a:xfrm>
            <a:off x="6227640" y="4508640"/>
            <a:ext cx="2772000" cy="200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ГАЗ 1"/>
          <p:cNvPicPr/>
          <p:nvPr/>
        </p:nvPicPr>
        <p:blipFill>
          <a:blip r:embed="rId4"/>
          <a:stretch/>
        </p:blipFill>
        <p:spPr>
          <a:xfrm>
            <a:off x="3203640" y="4508640"/>
            <a:ext cx="2819160" cy="2027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ИЗВЕСТН 3"/>
          <p:cNvPicPr/>
          <p:nvPr/>
        </p:nvPicPr>
        <p:blipFill>
          <a:blip r:embed="rId5"/>
          <a:stretch/>
        </p:blipFill>
        <p:spPr>
          <a:xfrm>
            <a:off x="250920" y="4508640"/>
            <a:ext cx="2705040" cy="201924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4"/>
          <p:cNvSpPr txBox="1"/>
          <p:nvPr/>
        </p:nvSpPr>
        <p:spPr>
          <a:xfrm>
            <a:off x="3635280" y="476280"/>
            <a:ext cx="475308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ЗЕМНЫЕ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ГАТСТВА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Ювелир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лма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уб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лах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яш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4922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Program Files\Microsoft Office\Media\CntCD1\ClipArt2\j0232149.wmf"/>
          <p:cNvPicPr/>
          <p:nvPr/>
        </p:nvPicPr>
        <p:blipFill>
          <a:blip r:embed="rId2"/>
          <a:stretch/>
        </p:blipFill>
        <p:spPr>
          <a:xfrm>
            <a:off x="5724360" y="2852640"/>
            <a:ext cx="3240360" cy="3384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985680" y="463680"/>
            <a:ext cx="645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184560" y="2637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68360" y="1773360"/>
            <a:ext cx="59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готовь сообщение о то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полезные ископае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бывают в Пермском кра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общение представ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виде кроссвор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ли виктор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ФОН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ЖЕЛЕЗНАЯ РУДА"/>
          <p:cNvPicPr/>
          <p:nvPr/>
        </p:nvPicPr>
        <p:blipFill>
          <a:blip r:embed="rId2"/>
          <a:stretch/>
        </p:blipFill>
        <p:spPr>
          <a:xfrm>
            <a:off x="324000" y="260280"/>
            <a:ext cx="3168360" cy="2067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4140360" y="33336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ЖЕЛЕЗНА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РУ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99120" y="2732040"/>
            <a:ext cx="207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35520" y="3933720"/>
            <a:ext cx="301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919440" y="515772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213080" y="2637000"/>
            <a:ext cx="160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яжел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в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4140000" y="4221000"/>
            <a:ext cx="45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изводство чугуна и ст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137480" y="5373720"/>
            <a:ext cx="34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 и закры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167480" y="260280"/>
            <a:ext cx="71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СПОСОБ ДОБЫЧИ ПОЛЕЗНЫХ ИСКОПАЕМ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ДОБЫЧА ПЕСКА"/>
          <p:cNvPicPr/>
          <p:nvPr/>
        </p:nvPicPr>
        <p:blipFill>
          <a:blip r:embed="rId2"/>
          <a:stretch/>
        </p:blipFill>
        <p:spPr>
          <a:xfrm>
            <a:off x="611280" y="1052640"/>
            <a:ext cx="2857320" cy="27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ШАХТА 2"/>
          <p:cNvPicPr/>
          <p:nvPr/>
        </p:nvPicPr>
        <p:blipFill>
          <a:blip r:embed="rId3"/>
          <a:stretch/>
        </p:blipFill>
        <p:spPr>
          <a:xfrm>
            <a:off x="4788000" y="3213000"/>
            <a:ext cx="3384360" cy="2855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1086120" y="4143240"/>
            <a:ext cx="21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ТКРЫТ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С ПОВЕРХНОСТИ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292720" y="2060640"/>
            <a:ext cx="2592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ЗАКРЫТ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(В ШАХ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ГРАНИТ 1"/>
          <p:cNvPicPr/>
          <p:nvPr/>
        </p:nvPicPr>
        <p:blipFill>
          <a:blip r:embed="rId2"/>
          <a:stretch/>
        </p:blipFill>
        <p:spPr>
          <a:xfrm>
            <a:off x="324000" y="333360"/>
            <a:ext cx="3168360" cy="1941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1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395280" y="2781360"/>
            <a:ext cx="314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611280" y="4076640"/>
            <a:ext cx="292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4419720" y="601560"/>
            <a:ext cx="323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ГРАНИ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1116000" y="5300640"/>
            <a:ext cx="164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4429800" y="2997360"/>
            <a:ext cx="18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4428360" y="4149720"/>
            <a:ext cx="258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меня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строитель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4426920" y="558972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УГОЛЬ"/>
          <p:cNvPicPr/>
          <p:nvPr/>
        </p:nvPicPr>
        <p:blipFill>
          <a:blip r:embed="rId2"/>
          <a:stretch/>
        </p:blipFill>
        <p:spPr>
          <a:xfrm>
            <a:off x="324000" y="189000"/>
            <a:ext cx="3097080" cy="2098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0"/>
          <p:cNvSpPr/>
          <p:nvPr/>
        </p:nvSpPr>
        <p:spPr>
          <a:xfrm>
            <a:off x="468360" y="2565360"/>
            <a:ext cx="30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468360" y="393372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3853440" y="333360"/>
            <a:ext cx="446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КАМЕННЫ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УГО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1135440" y="522936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998160" y="285264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рошо гор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911840" y="460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3924360" y="400536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пли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ырьё для хим.промышл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3921120" y="5516640"/>
            <a:ext cx="35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 и за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ФОН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1" descr="ИЗВЕСТНЯК 22"/>
          <p:cNvPicPr/>
          <p:nvPr/>
        </p:nvPicPr>
        <p:blipFill>
          <a:blip r:embed="rId2"/>
          <a:stretch/>
        </p:blipFill>
        <p:spPr>
          <a:xfrm>
            <a:off x="324000" y="189000"/>
            <a:ext cx="2927160" cy="2193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2"/>
          <p:cNvSpPr/>
          <p:nvPr/>
        </p:nvSpPr>
        <p:spPr>
          <a:xfrm>
            <a:off x="0" y="2852640"/>
            <a:ext cx="314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Осн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вой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0" y="4221000"/>
            <a:ext cx="321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Хозяйств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зна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3644280" y="620640"/>
            <a:ext cx="483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ИЗВЕСТНЯ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703800" y="5589720"/>
            <a:ext cx="174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Спосо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добы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279600" y="2924280"/>
            <a:ext cx="56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ч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нее прочная разновидность – м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3275280" y="3933720"/>
            <a:ext cx="402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оитель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учают изве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л используют в школ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лают из него побел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3347280" y="580536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уд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Железная 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6370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оительны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ран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звестня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ес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л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997360"/>
            <a:ext cx="428616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орючие полезные ископаем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Уго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ор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еф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родный га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0360" y="1916280"/>
            <a:ext cx="4535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5:23:00Z</dcterms:created>
  <dc:creator>Егорычева</dc:creator>
  <dc:description/>
  <dc:language>en-US</dc:language>
  <cp:lastModifiedBy>Сергей</cp:lastModifiedBy>
  <dcterms:modified xsi:type="dcterms:W3CDTF">2012-12-05T00:39:40Z</dcterms:modified>
  <cp:revision>14</cp:revision>
  <dc:subject/>
  <dc:title>Слайд 1</dc:title>
</cp:coreProperties>
</file>